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0C22-C244-4B28-A77B-A7DB2EED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6089-F4FA-44CA-AAD6-7EBAC1E3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7F17-EEA7-4718-8C41-975A24CB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DED5-912C-45FC-9F23-6DF5D31C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140B-CC1E-45B8-A83C-4D49DD58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AA54-456C-4990-A22A-3D50C9BC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6F4C-5BD9-4046-ADD8-89DCB337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4AA3-E86D-4C54-BDAD-64410DDD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EA8A-8D97-4357-BA0B-A64EE112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D683-D236-49D2-9851-504827A0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5B23-BC69-45B8-9767-C55E37F1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0E6E-DDE8-4077-A11E-33663CB4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784C-4825-4A2A-9678-0B94E13A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99C4-64AD-4E68-AFC8-E2B67428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F254-6A2F-4727-A10C-2C4ACCDE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867B-1CC8-4954-B77A-E0ADCBEF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6FD9-6886-4F77-927D-FDE9370C7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695E-1C1F-413D-8852-8C89948E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6377-B46A-4CFC-A059-4B3397BF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F048-C55B-40B3-895F-AD562FE6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E4F-9E0E-4E6E-9AB3-047F3641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39A1-3CC4-4BD2-A0E1-19303851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7EA0-B0E1-4E1C-A6A3-C812CE33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6CC-FAB7-4905-8B4D-A59A1C30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A1D6-07CE-451D-9680-D9CF612499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A56F-B7CE-424A-B649-1CC55CB44B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6666"/>
                </a:solidFill>
                <a:latin typeface="Arial"/>
              </a:rPr>
              <a:t>Lyon</a:t>
            </a:r>
            <a:endParaRPr b="0" lang="en-US" sz="9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66920" cy="914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1619280" y="3141720"/>
            <a:ext cx="6696000" cy="23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Ly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yon est la troisième ville de Franc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25" descr=""/>
          <p:cNvPicPr/>
          <p:nvPr/>
        </p:nvPicPr>
        <p:blipFill>
          <a:blip r:embed="rId1"/>
          <a:stretch/>
        </p:blipFill>
        <p:spPr>
          <a:xfrm>
            <a:off x="6659640" y="2997360"/>
            <a:ext cx="1297080" cy="866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6" descr=""/>
          <p:cNvPicPr/>
          <p:nvPr/>
        </p:nvPicPr>
        <p:blipFill>
          <a:blip r:embed="rId2"/>
          <a:stretch/>
        </p:blipFill>
        <p:spPr>
          <a:xfrm>
            <a:off x="755640" y="3068640"/>
            <a:ext cx="2286000" cy="2216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7" descr=""/>
          <p:cNvPicPr/>
          <p:nvPr/>
        </p:nvPicPr>
        <p:blipFill>
          <a:blip r:embed="rId3"/>
          <a:stretch/>
        </p:blipFill>
        <p:spPr>
          <a:xfrm>
            <a:off x="3492360" y="4292640"/>
            <a:ext cx="4457880" cy="15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Ly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763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Fête des Lumières est un événement important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3635280" y="4365720"/>
            <a:ext cx="2665440" cy="2000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6811920" y="3357720"/>
            <a:ext cx="1714680" cy="2735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3"/>
          <a:stretch/>
        </p:blipFill>
        <p:spPr>
          <a:xfrm>
            <a:off x="684360" y="3500280"/>
            <a:ext cx="251928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Ly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s paysages de la région sont variés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900000" y="3068640"/>
            <a:ext cx="2857680" cy="1593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2700360" y="5013360"/>
            <a:ext cx="2286000" cy="1604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/>
          <p:cNvPicPr/>
          <p:nvPr/>
        </p:nvPicPr>
        <p:blipFill>
          <a:blip r:embed="rId3"/>
          <a:stretch/>
        </p:blipFill>
        <p:spPr>
          <a:xfrm>
            <a:off x="4859280" y="3068640"/>
            <a:ext cx="2743200" cy="1620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4"/>
          <a:stretch/>
        </p:blipFill>
        <p:spPr>
          <a:xfrm>
            <a:off x="6372360" y="5013360"/>
            <a:ext cx="216036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Ly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 cinéma a été inventé à Lyon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2441520" cy="3024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2"/>
          <a:stretch/>
        </p:blipFill>
        <p:spPr>
          <a:xfrm>
            <a:off x="6156360" y="314172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3"/>
          <a:stretch/>
        </p:blipFill>
        <p:spPr>
          <a:xfrm>
            <a:off x="4211640" y="4508640"/>
            <a:ext cx="144000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Ly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Les fresques de Lyon sont connue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7" descr="http://www.cite-creation.com/actualites/wp-content/uploads/2012/07/Le-Mur-des-Canuts-2-version-.jpg"/>
          <p:cNvPicPr/>
          <p:nvPr/>
        </p:nvPicPr>
        <p:blipFill>
          <a:blip r:embed="rId1"/>
          <a:stretch/>
        </p:blipFill>
        <p:spPr>
          <a:xfrm>
            <a:off x="2987640" y="3213000"/>
            <a:ext cx="439272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Ly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l y a de nombreux festival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2087640" cy="185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"/>
          <p:cNvPicPr/>
          <p:nvPr/>
        </p:nvPicPr>
        <p:blipFill>
          <a:blip r:embed="rId2"/>
          <a:stretch/>
        </p:blipFill>
        <p:spPr>
          <a:xfrm>
            <a:off x="4140360" y="2781360"/>
            <a:ext cx="2592360" cy="1736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3"/>
          <a:stretch/>
        </p:blipFill>
        <p:spPr>
          <a:xfrm>
            <a:off x="539640" y="4941720"/>
            <a:ext cx="1584360" cy="1438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"/>
          <p:cNvPicPr/>
          <p:nvPr/>
        </p:nvPicPr>
        <p:blipFill>
          <a:blip r:embed="rId4"/>
          <a:stretch/>
        </p:blipFill>
        <p:spPr>
          <a:xfrm>
            <a:off x="7164360" y="4221000"/>
            <a:ext cx="1444680" cy="216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5"/>
          <a:stretch/>
        </p:blipFill>
        <p:spPr>
          <a:xfrm>
            <a:off x="2771640" y="4941720"/>
            <a:ext cx="262908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Ly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On appelle Lyon la capitale mondiale de la gastronomie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539640" y="3213000"/>
            <a:ext cx="2232000" cy="1344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2"/>
          <a:stretch/>
        </p:blipFill>
        <p:spPr>
          <a:xfrm>
            <a:off x="6877080" y="3284640"/>
            <a:ext cx="1868400" cy="1871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3"/>
          <a:stretch/>
        </p:blipFill>
        <p:spPr>
          <a:xfrm>
            <a:off x="3995640" y="3429000"/>
            <a:ext cx="2303640" cy="1476360"/>
          </a:xfrm>
          <a:prstGeom prst="rect">
            <a:avLst/>
          </a:prstGeom>
          <a:ln w="0">
            <a:noFill/>
          </a:ln>
        </p:spPr>
      </p:pic>
      <p:pic>
        <p:nvPicPr>
          <p:cNvPr id="129" name="irc_mi" descr="http://merveilleusenature.m.e.pic.centerblog.net/ox2k041x.jpg"/>
          <p:cNvPicPr/>
          <p:nvPr/>
        </p:nvPicPr>
        <p:blipFill>
          <a:blip r:embed="rId4"/>
          <a:stretch/>
        </p:blipFill>
        <p:spPr>
          <a:xfrm>
            <a:off x="2268360" y="4797360"/>
            <a:ext cx="1317960" cy="1859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"/>
          <p:cNvPicPr/>
          <p:nvPr/>
        </p:nvPicPr>
        <p:blipFill>
          <a:blip r:embed="rId5"/>
          <a:stretch/>
        </p:blipFill>
        <p:spPr>
          <a:xfrm>
            <a:off x="5940360" y="5300640"/>
            <a:ext cx="1440000" cy="10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0:12:09Z</dcterms:created>
  <dc:creator>CEC</dc:creator>
  <dc:description/>
  <dc:language>en-US</dc:language>
  <cp:lastModifiedBy>Delphine Gachet</cp:lastModifiedBy>
  <dcterms:modified xsi:type="dcterms:W3CDTF">2013-02-24T12:35:03Z</dcterms:modified>
  <cp:revision>13</cp:revision>
  <dc:subject/>
  <dc:title>Genève</dc:title>
</cp:coreProperties>
</file>